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0171-77C3-4114-96DA-3F6459130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E58E-1340-4F4D-8C42-016ACE948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CB8-5EEA-4778-888E-D42E2B82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3D0-8366-4BC1-82AE-97282955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C81A4-5540-4090-B417-B84AE4DE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A0A57-02B1-4DE4-85FF-8EC70868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CEE93-81B6-40AA-A8A2-F457B342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261F8-ACB4-46C9-9E07-EB3C0EA2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F338D-407F-4B1B-9377-CC19591F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5B1F5-60AE-44B2-A296-B242DA0D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D196B-4DB5-4C92-9256-AEB14A4A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4DE2E-9B02-4975-8E23-23EFFDB7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D3400-0A18-4BFB-88AB-43B638D9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364CCF-5D36-4F98-BDAE-6F212325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F5C-4F3E-4789-94FF-3383163D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16D7AF-F80F-49D0-87C2-E6215E1B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BD52F2-8AAF-456E-AF26-669AE808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D14ABB-BE14-41D2-8897-60DFA80E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66D70A-79D4-46D0-8F4D-84D6FB83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33B9EF-879D-4739-8C28-3B761718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AA5E78-47B7-4328-B5D3-D7972CEA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BE927E-F3B1-499F-AB83-79594A35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4131B4-7EC0-472D-B31A-5D19B1CB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9F167F-CD08-4F39-B3B1-67C01270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12B9A8-E083-4E4E-9730-53793D3B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45B5-3BF0-493B-8555-B1A33CBF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132A18-C166-49ED-B1F9-3EF1167C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718B0-7DCE-4508-931A-CF1DA68F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74191-420D-4C2A-A205-C740163A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E196D-6EBE-40BE-A361-AC32CA76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5B8E6-1B78-471A-91DE-27CEDA90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2A839-E167-45A5-8A7F-C3EB2313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6351F-D771-47E0-808E-921C4B0D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2BAC5-3E67-4EFE-B8EF-177ECF68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FC405-A7D0-4978-88BB-42ADD852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3AD27-606D-40D9-B4E9-625FA669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98E1-BA6C-4845-B9D5-94D832E9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71ACA-15F7-4920-8420-F7F61AF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B7348-D788-40C2-ADB8-A9F84A2D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EC6F3-7E65-463E-ADDF-26C389D2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7968-1CD8-4313-8F36-0FA89D22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F735-37E8-4439-BBE7-C5CDEA28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C3B8-4B39-4199-A1EE-A28A49CA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17D0-4D36-435F-8FBF-D97FA866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9C30-6984-46FC-8368-A0A4D93E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0A3C-1BF5-46A7-9BFD-13598A1F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F3D-6A0A-445A-BB5A-1FFB495A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4DD1-708D-4282-8543-0F3474F5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FCAC-7413-498D-BA44-ACBD4336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2FBE-CC21-48EC-ABDC-3873CB2E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AD93-050E-4E49-B11D-A109F131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23F7-ECC6-49D2-B8FD-109BD921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EF00-9509-4C66-BDD1-282964EB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0CA64-FCB2-43FD-8FF9-3EB84CCD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ED2A-D113-4634-934F-14D42E8F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BA3F-A8DF-42A7-A525-15480A61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7AC3-137A-4804-AF46-6FEFD64B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89D-96B1-4BE1-8493-8123432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AB58-32A7-4F7A-A795-0ECA6461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C866-9D43-452E-82DE-2040C8A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4551-64B6-4F1B-9E2D-3C5ADA05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F098-B526-483F-8E5B-B26CDC33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4317F-588C-4E0F-BD46-CB29CF7E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DE43A-7D3A-4AB3-B663-AD01C467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11AF-3DDA-450C-8EA8-F5AD1A22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E2F20-1A9B-4B7E-9254-D19512B2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5FE2D3-8B4E-422E-BDE6-BE3ED3D3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AC9FD-2C7D-451F-8CCB-229BB2C7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133-2983-4F68-AD15-375BBDA2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E2ACF-910F-4BC7-9197-EE5A1753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D5888-A721-4CA0-AB43-23C45DEC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E35E1-D5F3-4207-AE67-B10D2315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C3F717-44F9-411D-8DB3-2BD9718A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79FEB-4B48-46E0-8304-AF0A3E24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1B0D2-2152-4166-970A-266204FC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847AC-BA7F-4EFF-B49C-9CE1810A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F21C1-E0A0-4F65-88D4-58CD668B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B2CE7-DA47-4251-B0DB-E1FB2EB4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0CF62-2D58-4A5C-B5FA-CA8D0E20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1F9-26A8-43E3-8901-15DEE038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A0CC2-08E3-431E-968C-564C268D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ACCE4A-61E4-4EEF-B69E-3F84CAC1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A0EFB1-92FC-4A12-9F78-65B41555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AC3266-EC03-4771-817A-8E49B5C9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DA1B6-EE77-4005-A006-58F812D4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1FFD6D-DD7A-4340-8CB5-47D1A76E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4AF45-BFFB-4834-9EC3-DA6C7741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FCECA-87D7-441F-ABF2-4C2018BE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B8A32-7DD4-4F00-8BDF-E3C1A401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80DE2-BE65-4D1E-8385-5717E465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C5A-5052-40A5-9A9C-46CDC84D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7EB61-B910-47CA-81B1-7D855434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41B63-63BD-4AC1-ACE7-B7536C75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7048E9-1685-44FA-A3A5-27714FE8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B7F54D-D3E9-4B1D-92C1-A4860E2C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09A82-6121-4D54-BD1A-AAC98CF4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D6D13-CA31-4247-AF57-54024EB4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C7C17-7925-4BB1-8A8D-DC9895E2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72F4C-CDB4-4ED1-81B1-053437CB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863E0-A45D-4128-8C37-2111745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214D91-5654-4433-BA5E-358414AD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494-C5E9-406D-B2E2-F9D928EF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57EDA-00BB-40AD-A9F3-7724CA4A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7AC51-DDE4-4332-BAA9-1F3C93E3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5A005D-5FA5-42B4-B92C-60919589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445D-FA74-439B-8517-5EB52E12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E549F-6023-41D5-A073-D4075F95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8C046-D8E0-4D53-AC05-FABFAA04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BD5F2-002B-4439-859E-3C713967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51A7A-42CF-454A-B25E-C6264A0A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E1F91-AC52-4A1E-AF11-E4DD96F4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D03B5-F116-4C62-95E7-5FFA2CE8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E62-B9DB-444A-A439-F0BC5606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5F5B3-39A1-4610-9EEB-D83A0860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DDA8C-96AE-4EAD-9FFD-9BD42CEC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DCA9A-ABBD-4269-8EF0-58B801A5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8F62C-9587-4122-8DDD-0A7F36A8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F2C8A-64DE-4D3B-80E6-3E6E6C2E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F7D41-A0B6-406B-9615-B058B486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6F079-2873-41FA-8C5A-E319D79F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95DD0-DFC0-419E-BA71-D577DAA3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88BEB-8438-4FE6-99BF-9153005B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26B04-5F32-4716-94ED-72A876D1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F96-6900-4BF2-B38F-51388742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4CF45-7D50-4E48-8608-3AF1B933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AD7E8-CF3E-486B-B162-4F6D56E9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456AE-6D5A-46EA-86DA-A7A610E0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57707-1F20-4896-9B9B-B822E76F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61C16-7E22-4C7A-833A-34FE317F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3F7E5-77AC-49E1-B099-D03E3711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9686D-2AB1-4D8B-99A7-8E9C6961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F464E-A869-4CB4-B77A-5D1300F9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D1D00-07DA-4CC9-BB35-D2CC42C6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F4498-FD81-406F-95B1-0AEFD74C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6554-BAA0-406E-8807-C62B20BE87B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DB18D5F-9FAF-4DA6-A30C-B05BD4101C42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E036-C3A2-4839-A4E7-6EE5D1357986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0144-578D-46F7-9FEA-243CD30F0A9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85EEE98F-DA49-430D-812D-782E4C0ED8B7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5DD7-0DC0-4D56-BAEA-23F384505978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2B51-D060-4D80-8649-7418D83D823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947B5CC7-FE6E-4D9A-AD5C-465B73ECBCAF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E192-2664-413D-A251-36312FDF712E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F9D1-BA0E-4210-BE9C-CF2CF263F58F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D1F4B87F-29CE-445A-AF6D-766FBB01DA9E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:2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7D69-52B2-44C3-BCFD-EBC52A6EB716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C728-769C-41D5-9198-3441A744FF0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4CE518C-ECA2-4D6A-A2E5-885E597B4E37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4A3A-762F-456A-922C-909343BB612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0ED7-5C03-495B-A481-16926CC353D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42D4E5CF-E4F3-4752-8E30-82C6ABD0666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37E8-DC37-42CB-AED7-A0426C5CA3D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8882-FFF8-43F9-9190-8CD891A3DBD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559C1B1-9B25-4432-A6F8-3E33174456AD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52E1-0A8F-4507-9002-F3D3DFCFD7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3E16-01F0-48B6-B8B2-D745DC60CED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B929484F-067E-44DE-99B3-19FCCD9D6AB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0FF7-C225-41DA-812B-555FAF11482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92D1-D22C-471A-A0E9-5691DF98A5B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E2185CFA-E103-4D12-BD53-B2DA9272426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DD56-5609-4E38-8060-517434B985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D9E3-3FD3-459E-95AC-E0584EB093D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AFD67B6E-DACA-42E2-9160-21A5FB1423F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AEC8-75A2-42E4-8EA5-E892897762E8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085B-4ECF-4714-9EDD-54D46D1BA19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21A8E22F-F968-4A9F-BA1E-031E295A3139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2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0DA4-992A-44BF-8EED-D5F6BFDDF5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42960" y="1557360"/>
            <a:ext cx="64771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sl-SI" sz="4500" spc="-1" strike="noStrike">
                <a:solidFill>
                  <a:srgbClr val="eeece1"/>
                </a:solidFill>
                <a:latin typeface="Tw Cen MT"/>
              </a:rPr>
              <a:t>Javno naročanje v Sloveniji in ukrepi za njegovo učinkovitost</a:t>
            </a:r>
            <a:r>
              <a:rPr b="0" lang="en-GB" sz="4500" spc="-1" strike="noStrike">
                <a:solidFill>
                  <a:srgbClr val="eeece1"/>
                </a:solidFill>
                <a:latin typeface="Tw Cen MT"/>
              </a:rPr>
              <a:t>  </a:t>
            </a:r>
            <a:endParaRPr b="0" lang="en-US" sz="45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03280" y="6049440"/>
            <a:ext cx="586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Direktorat za javno naročanj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Maja Koković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6443640" y="53006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točec,  21. 5. 2014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0" y="6016680"/>
            <a:ext cx="30862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Visoka raven transparentnost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zke mejne vrednosti za objave (20.000 EUR za blago in storitve, 40.000 EUR za gradnje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o javno odpiranje ponudb in možnost vpogleda v ponu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objava “Prostovoljnega” obvestila za predhodno transparentnost v postopkih s pogajanji brez predhodne objav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napoved zadnjega kroga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javljanje obvestil o izvajanju okvirnih sporazum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vseh udeleženih v postopku o predvidenem izboru ponudnika za večjo transparentnost o morebitnem  konfliktu interes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nadzornega organa naročnika o sklenitvi aneksa, zavrnitvi vseh ponudb, odstopu od izvedbe naročil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malu objava ključnih delov JN pogodbe na portalu javnih naroč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Poenostavitve in fleksibilnost postopkov J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d mejnimi vrednostmi EU en postopek z objavo povpraševanja na portalu javnih naročil in možnostjo vključitve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roki niso izrecno določen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ajprej razvrstitev ponudb, nato preveritev najugodnejše, če to omogoča potek postopka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uporaba do 4 mesece starih dokazil iz prejšnjih postopkov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okazila iz uradnih evidenc mora pridobiti naročnik in jih ne sme zahtevati od ponudnika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nudniki lahko predložijo zgolj lastno izjavo, naročnik naknadno pozove k predložitvi dokazil le najugodnejšega ponud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ela na gradbišču lahko tečejo nemoteno kljub nezaključenim pogajanjem o dodatnih gradbenih delih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Od formalizmov k vsebini in odpiranju trga J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naliza trga kot podlaga za določitev ocenjene vrednosti JN in zagotovljenih sredstev (razvid izračuna ocenjene vrednosti,  obvezna opredelitev vrednosti in roka veljavnosti pogodbe)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dprava računskih napak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ožnost odprave formalnih pomanjkljivosti in napak v ponudb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ax. delež dodatnih storitev ali gradenj 30 %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JN - instrument za doseganje ciljev okoljske, socialne in gospodarske politik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Integriteta, odgovornost in nadzo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oti-korupcijska klavzula in letno poročanje Komisiji za preprečevanje korupcije o premoženju sodelujočih v postopkih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rški v primeru kršite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Uvedba e-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osje ponudnika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za takojšnje preverjanje ponudb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istem bo povezan z uradnimi evidencami in omogočal deponiranje certifikatov, referenc in drugih dokaz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ražb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v primeru nesprejemljivih ponudb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oddaja ponudbe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žji stroški postopka JN za ponudnika in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interni postopek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plikacija za upravljanje, vodenje in sledljivost postopkov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računi in e-plač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ravno varstvo pri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luzivni rok za zahtevke za revizijo zoper razpisno dokumentac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 morebitnih napakah v razpisni dokumentaciji mora potencialni ponudnik preko portala javnih naročil obvezno opozoriti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ljub vloženem zahtevku za revizijo se postopek javnega naročanja lahko nadaljuje, naročnik pa ne sme skleniti pogo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taksa za predrevizijski in revizijski postopek je relativno visoka, vendar upošteva načelo sorazmernosti (predmet naročanja, vrednost naročila, sklopi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avno varstvo se lahko uveljavlja le zoper bistvene kršitve v postopku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dnostna obravnava zahtevkov za revizijo, ki se nanašajo na naročila, sofinancirana s sredstvi EU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izjemo kratki roki v predrevizijskem in revizijskem postopku ter avtomatično nadaljevanja pravnega varstva pred Državno revizijsko komis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38037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Za učinkovitejši sistem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Zakonoda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ddaja javnih naročil v prak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Spremljanje stanja in nadzo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Povratna informacija in usposabljan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36720" cy="100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imagesCAQWGSER"/>
          <p:cNvPicPr/>
          <p:nvPr/>
        </p:nvPicPr>
        <p:blipFill>
          <a:blip r:embed="rId3"/>
          <a:stretch/>
        </p:blipFill>
        <p:spPr>
          <a:xfrm>
            <a:off x="1403280" y="4221000"/>
            <a:ext cx="2413080" cy="1598760"/>
          </a:xfrm>
          <a:prstGeom prst="rect">
            <a:avLst/>
          </a:prstGeom>
          <a:ln w="0">
            <a:noFill/>
          </a:ln>
        </p:spPr>
      </p:pic>
      <p:sp>
        <p:nvSpPr>
          <p:cNvPr id="508" name="PoljeZBesedilom 8"/>
          <p:cNvSpPr/>
          <p:nvPr/>
        </p:nvSpPr>
        <p:spPr>
          <a:xfrm>
            <a:off x="2340000" y="6165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Hvala za pozornost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8:55:39Z</dcterms:created>
  <dc:creator/>
  <dc:description/>
  <dc:language>en-US</dc:language>
  <cp:lastModifiedBy/>
  <dcterms:modified xsi:type="dcterms:W3CDTF">2014-05-20T10:26:12Z</dcterms:modified>
  <cp:revision>5</cp:revision>
  <dc:subject/>
  <dc:title>SPREMEMBE NA PODORČJU JAVNEGA NAROČANJA (ZJBN-2D, ZJVETPS-D, ZJNPO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